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AF2-67B8-4BF3-ABCF-272B5C02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36A-7609-4FE6-82C1-DAEE3B05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17E1-E47D-44D4-AE22-671F3CA5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421-2856-4CD7-877A-7F3908F7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4777-C7A9-4901-B0B8-BD4AC20C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E58A-79E7-42E5-AAA5-B38BA773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7BDA-182E-4FA0-92F2-EED33E52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3D4F-F6A9-418F-9FB2-F147653F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8BF8-278C-4342-B82E-825A7824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601C-06C0-41DC-839E-AFBCCE17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461B-4231-4F90-923F-93AB2146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2F3-1C76-4D5D-955D-88E0066A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E448-85A7-4294-98CF-9E174902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5DF3-EDFD-4B42-87FF-622EC772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DAB2-9DF3-4E77-9064-CD9C0F04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0701-1830-4D99-9426-48FC7A05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BA87-7D7A-4187-AD55-F1807338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BC2-9D2C-44A6-B9AF-2FBAC4E8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683-6CBD-4CCF-86CE-6F160419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975-A839-465B-B7F0-FED6510B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4E3-9685-4AC6-A42E-597EFD4E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A25-7774-4C52-ABE8-D8B5996A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C832-9BEE-497A-8084-CA98D808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DB5-CC31-401C-A595-33BFA1EF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CEAB-4B4B-4E2A-AB8D-DB48F5C2FD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8D92-B960-4B58-B232-542BEC741F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5400" spc="-1" strike="noStrike">
                <a:solidFill>
                  <a:srgbClr val="420000"/>
                </a:solidFill>
                <a:latin typeface="Times New Roman"/>
              </a:rPr>
              <a:t>Romance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Arial"/>
              </a:rPr>
              <a:t>La eda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420000"/>
                </a:solidFill>
                <a:latin typeface="Times New Roman"/>
              </a:rPr>
              <a:t>Fondos histórico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imes New Roman"/>
              </a:rPr>
              <a:t>Pop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imes New Roman"/>
              </a:rPr>
              <a:t>Arte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imes New Roman"/>
              </a:rPr>
              <a:t>Cantares de g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Juglares y trov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imes New Roman"/>
              </a:rPr>
              <a:t>Fragmen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imes New Roman"/>
              </a:rPr>
              <a:t>Tipos de Rom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Histórico/Fronteri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00"/>
                </a:solidFill>
                <a:latin typeface="Times New Roman"/>
              </a:rPr>
              <a:t>Llanto dolor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Lírico/Novele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imes New Roman"/>
              </a:rPr>
              <a:t>Autor anó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420000"/>
                </a:solidFill>
                <a:latin typeface="Times New Roman"/>
              </a:rPr>
              <a:t>Estructur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00"/>
                </a:solidFill>
                <a:latin typeface="Times New Roman"/>
              </a:rPr>
              <a:t>Estribillo explo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000000"/>
                </a:solidFill>
                <a:latin typeface="Times New Roman"/>
              </a:rPr>
              <a:t>Reforzar el mens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000000"/>
                </a:solidFill>
                <a:latin typeface="Times New Roman"/>
              </a:rPr>
              <a:t>Intercalado/en media 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00"/>
                </a:solidFill>
                <a:latin typeface="Times New Roman"/>
              </a:rPr>
              <a:t>Octosílab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000000"/>
                </a:solidFill>
                <a:latin typeface="Times New Roman"/>
              </a:rPr>
              <a:t>Musi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000000"/>
                </a:solidFill>
                <a:latin typeface="Times New Roman"/>
              </a:rPr>
              <a:t>Ritmo de la re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00"/>
                </a:solidFill>
                <a:latin typeface="Times New Roman"/>
              </a:rPr>
              <a:t>Asonancia xaxaxax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000000"/>
                </a:solidFill>
                <a:latin typeface="Times New Roman"/>
              </a:rPr>
              <a:t>Rima la a para expresar sorpresa y dolor (¡Ah!) por haber perdido Alh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Times New Roman"/>
              </a:rPr>
              <a:t>Para predecir la pérdida de la Gr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00"/>
                </a:solidFill>
                <a:latin typeface="Times New Roman"/>
              </a:rPr>
              <a:t>Uso de diá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000000"/>
                </a:solidFill>
                <a:latin typeface="Times New Roman"/>
              </a:rPr>
              <a:t>Producir vo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000000"/>
                </a:solidFill>
                <a:latin typeface="Times New Roman"/>
              </a:rPr>
              <a:t>Extraer otros puntos de v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Times New Roman"/>
              </a:rPr>
              <a:t>Voz poé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Times New Roman"/>
              </a:rPr>
              <a:t>Alfaqu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Times New Roman"/>
              </a:rPr>
              <a:t>Rey m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00"/>
                </a:solidFill>
                <a:latin typeface="Times New Roman"/>
              </a:rPr>
              <a:t>Apóstro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00"/>
                </a:solidFill>
                <a:latin typeface="Times New Roman"/>
              </a:rPr>
              <a:t>Sinale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000000"/>
                </a:solidFill>
                <a:latin typeface="Times New Roman"/>
              </a:rPr>
              <a:t>Para mantener la musicalidad de los ve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42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e University Summer AP Conference, 24 July 2003, Yolanda Soliz (Lead Consult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4:08:01Z</dcterms:created>
  <dc:creator>Preferred Customer</dc:creator>
  <dc:description/>
  <dc:language>en-US</dc:language>
  <cp:lastModifiedBy>Preferred Customer</cp:lastModifiedBy>
  <dcterms:modified xsi:type="dcterms:W3CDTF">2003-07-24T14:45:09Z</dcterms:modified>
  <cp:revision>6</cp:revision>
  <dc:subject/>
  <dc:title>Romances</dc:title>
</cp:coreProperties>
</file>